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FC0-732E-46AF-951C-C3FB2C00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4FF-41F1-4798-AA6D-226B662C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B5F-9D55-443C-BF89-A460B2A6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04C-7AF5-404E-8CB1-9AA140F0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288-CDB8-447A-8B46-FA9EC481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BC1-350A-4B02-BC21-1178E276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549-93BC-4E99-86D3-27EA3FD1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6A1-6832-4F88-BA3F-DBF23264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79E-5082-4097-BAC5-AC134872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7A0-C61C-474E-9532-8923DF5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E23-8960-4BE3-96E9-7D100746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D4B-E1C4-4C17-95FC-6B7AF7D5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D682-7CDB-4DD6-B4C8-A2DF3B130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espół Szkół N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strzębie Zdró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&amp; Teachers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espół Szkół is a stat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4 teachers teach various subjects to 450 students. We learn English from the first grade. German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mnazju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another foreign language. We are not bad at computer studies but our favourite is Sports. We have won a lot of competitions and matc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440760" cy="484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72360" y="1557360"/>
            <a:ext cx="2322360" cy="174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2247840" cy="1689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588000" y="4653000"/>
            <a:ext cx="23940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ding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– excel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 - very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– 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pa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– in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asses – we sometimes lear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78360" y="2025720"/>
            <a:ext cx="1776600" cy="133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87600" y="4363920"/>
            <a:ext cx="1776240" cy="1335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778360" y="4363920"/>
            <a:ext cx="17766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d sometimes have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78360" y="2025720"/>
            <a:ext cx="1776600" cy="1334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338120" y="4178160"/>
            <a:ext cx="2276640" cy="1706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22840" y="3938760"/>
            <a:ext cx="3889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ni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-2009  -  A Slice of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9-2011   -  Virtual 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87600" y="319572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3280" y="3195720"/>
            <a:ext cx="2911680" cy="218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ountry: Po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7600" y="2025720"/>
            <a:ext cx="2624040" cy="1971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59280" y="2025720"/>
            <a:ext cx="2695680" cy="202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87600" y="4322880"/>
            <a:ext cx="2479680" cy="186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03640" y="4308480"/>
            <a:ext cx="25513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untry in Central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a – 300,000 square km, from the Baltic Sea to the Tatras mountains, the 9th largest country in Europ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– over 38 m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at a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rszawa – the capital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raków – the historical capital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gion: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8120" y="1839960"/>
            <a:ext cx="2276640" cy="170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464000" cy="335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3618000"/>
            <a:ext cx="3744720" cy="2814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22762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wn – Old S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744720" cy="207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1720" y="3938760"/>
            <a:ext cx="3889440" cy="218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22840" y="3938760"/>
            <a:ext cx="3889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astrzębie Zdró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th century Jastrzębie was a spa village. It was granted city rights in 196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adays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wn with a population of 100,000 inhabitants, an important coal mining centre. Old guest houses and sanatoriums were converted to education cen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strzębie lies near the Polish –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zech b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rn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1555920"/>
            <a:ext cx="2879640" cy="2163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27640" y="1844640"/>
            <a:ext cx="283824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87600" y="3402000"/>
            <a:ext cx="3055680" cy="229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508720" y="3716280"/>
            <a:ext cx="29304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in Poland go to school at the age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f six / seven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primary school they go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mnazju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It ends with an ex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n they can continue their education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ceum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S11 – Our Schoo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624400" cy="1971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2622240" cy="19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2697120" cy="202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364000" y="3860640"/>
            <a:ext cx="247824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8:55:15Z</dcterms:created>
  <dc:creator>brak</dc:creator>
  <dc:description/>
  <dc:language>en-US</dc:language>
  <cp:lastModifiedBy>brak</cp:lastModifiedBy>
  <dcterms:modified xsi:type="dcterms:W3CDTF">2009-10-19T18:48:25Z</dcterms:modified>
  <cp:revision>5</cp:revision>
  <dc:subject/>
  <dc:title>Zespół Szkół Nr 11</dc:title>
</cp:coreProperties>
</file>